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428-1F9D-4B5A-B3C2-F31AE870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ADD-F580-40A9-93D5-2FCE1E4D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E0E-2047-4935-B6D0-7E320225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5C4-7223-4D0E-910B-838C29CE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39C9-6C28-4C16-B133-A64EE98B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37BB-B431-4B60-A9B8-02612AAE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3551-48A5-4E03-968F-829A92B0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E2E8-0CED-48BD-A197-7618CCD8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A58E-8D5D-4982-96FA-EB7ECFE7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D868-ECF4-48A4-A104-39894125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D42D-296E-4C4A-B2C2-201DD78D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620-7297-48C0-A7AB-C2356930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A2A8-3AD7-4ABD-BAFA-31AF3230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5411-1AA6-4806-8BC2-71145E37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FA8F-EE7E-4F26-9C49-BC62851B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7F8C-8DEB-4249-BD01-71DBFC94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030C-34A0-4BED-8623-D3FFFB31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AD4-481E-4F26-97E8-9D5E6124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7FE-81E6-49BF-A67F-D0084670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599-2957-4164-82BC-0DBBDEF9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1AF-238A-4809-BC00-78881911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818-864F-4310-98E8-93224004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16F-8880-4A97-8928-38D096E4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1F8-CF36-40D5-BA9B-22990FB4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6F5F-6A05-4AC3-B743-5C8E7519CA2D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860F-5209-4E48-9B99-2325C399BC46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5812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Tech Team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Support Hardware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ntel ProSet 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Troubleshooting Internet Connectivity for PCs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sk selected participants to share some issues they faced when practicing  connecting to the wireles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scuss how they handled these issue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swers (insert answers here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configure our school’s computers wireless setting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the steps I need to follow to connect to the school’s wireless signal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 we are going to discuss the necessary steps to successfully reconfigure Internet setting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ometimes school laptop users experience difficulty when they lose their connection to the school’s Internet.. 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s is an inconvenience to both teachers and student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Watch me as I show you how to connect to the wireless network.”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Step 1: Before turning the power on, make sure the wireless switch on the left hand side panel is pushed forward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Step 2: Turn the power on the laptop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Step 3: After the computer has booted up, make sure the blue light is on next to the green power light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Step 4: On the bottom right hand corner of the screen hover your mouse over  the icon for Wireless Network Connection Wizard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Step 5: A small window should come up stating the connection, speed, strength, and status.  There should be 3 green signal waves coming out of the monitor icon. If it states you are connected, try opening Internet Explorer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Step 6: If you have a red X on the Wireless Network Connection wizard, right click the icon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Step 7: Click repair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Step 8: It will then refresh the wireless settings for the laptop.  Once this is complete a window should pop up stating that you are connected to the wireless network connection (DOETWAC00M001vl90g, etc.)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64"/>
                </a:solidFill>
                <a:latin typeface="Arial"/>
              </a:rPr>
              <a:t>The DOETWAC00M001vl # may change depending on location in the building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uide participants through the process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Now it is your turn to try it.” Follow the steps to connect to the school’s wireless connecti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Tell participants what they will be doing during their work time, and how much time they have: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“Take the next 15 minutes to reconfigure the wireless settings on your laptop to these settings”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Profile Name: PS55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SID: DOETWAC00M001vl60g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EP Key:  31R055D5001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Participants will...</a:t>
            </a:r>
            <a:br>
              <a:rPr sz="2400"/>
            </a:b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Step 1: Open Wireless Signal (ascending bars on the bottom right corner of start panel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Step 2: Click on the tab Wireless Network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Step 3: Click on the add wand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Step 4: Click manually connect to an advanced network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Step 3: Enter the SSID cod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Step 4: Enter the WEP Ke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Step 5: Establish a connection to the Internet.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IT</cp:lastModifiedBy>
  <dcterms:modified xsi:type="dcterms:W3CDTF">2008-10-17T18:39:29Z</dcterms:modified>
  <cp:revision>11</cp:revision>
  <dc:subject/>
  <dc:title>Workshop Title</dc:title>
</cp:coreProperties>
</file>